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BDE-7266-4A14-95CC-65DFE3F0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FA2-87FB-4C15-8D46-045A680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490-BC76-4FD5-B158-5DC5CE0C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CBE-2D77-4300-9BF7-874601BA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E5A-7B8A-4B04-9FAE-E813327A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32D-8B10-4EF3-90F9-C844FFE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4789-E782-4B19-B9BD-F57DC6AE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47B5-F233-4C00-BEC3-243D295C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A96-E5A7-4052-B304-7D1AF61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FE06-ADE4-4C17-ABCD-852280FC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F294-0718-4F7B-AC50-5CBC3F8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6B3-0993-46C2-BCEB-97DF2E92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8846-B253-4703-A077-1E7919D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CD6B-9FCB-4B0B-BBEB-4FACE1D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25D-7B6B-4BF8-AA00-4A03568F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40E9-A629-4D81-A1FF-A149B21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A527-FFEB-46F3-8F79-61983B15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B4F-322F-42FC-911B-E466AE30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32C-1FA9-4D9C-814E-057CD58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F1E-186B-4F5D-905F-CF62516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594-32A7-45D9-BE7D-CF8B19D1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CF8-1DEE-4E5B-A714-27F9370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F75-31D0-4617-B401-FFB0092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803-A2E2-4600-9135-BC176F0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7A68-B91C-4189-8BC5-1EF768B9B4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BF14-8083-47D2-A046-0502940D64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La Cas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By: Maggie Camp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garaje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garaje es frío y grande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15400" cy="503568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casa es bonita y bella.</a:t>
            </a:r>
            <a:r>
              <a:rPr b="0" lang="en-US" sz="1600" spc="-1" strike="noStrike">
                <a:solidFill>
                  <a:srgbClr val="ffffcc"/>
                </a:solidFill>
                <a:latin typeface="Curlz MT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urlz MT"/>
              </a:rPr>
              <a:t>La Cocina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La cocina es nueva y estupenda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29560" cy="48816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Comedor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Curlz MT"/>
              </a:rPr>
              <a:t>Mi comedor es magnífico y increible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9896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Una sal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Una casa es estupenda y fabulos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53532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Ba</a:t>
            </a:r>
            <a:r>
              <a:rPr b="0" lang="en-US" sz="4000" spc="-1" strike="noStrike">
                <a:solidFill>
                  <a:srgbClr val="ffffcc"/>
                </a:solidFill>
                <a:latin typeface="Curlz MT"/>
                <a:ea typeface="Tahoma"/>
              </a:rPr>
              <a:t>ñ</a:t>
            </a: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El baño es lujosa y bonit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467840" cy="49831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Caurd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El caurdo es bella and viej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Pati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patio es bonita y pequeñ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430280"/>
            <a:ext cx="8153280" cy="54277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jardin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jardin es bella y impresionante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4:35Z</dcterms:created>
  <dc:creator>campionmag</dc:creator>
  <dc:description/>
  <dc:language>en-US</dc:language>
  <cp:lastModifiedBy>campionmag</cp:lastModifiedBy>
  <dcterms:modified xsi:type="dcterms:W3CDTF">2012-10-25T17:51:28Z</dcterms:modified>
  <cp:revision>6</cp:revision>
  <dc:subject/>
  <dc:title>La Casa By: Maggie Campion</dc:title>
</cp:coreProperties>
</file>